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A688-A7D1-46AD-83B3-4A1D9BA6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735A-ED83-41D7-BE38-DEBD98C6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BDA-12F4-4114-BC37-A317C69B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DCCC-435D-44BE-8605-3251311B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961-A724-4A7A-BCA6-DA7F7B50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24F7-F87D-46E6-8681-02D80DF3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BEB8-CF53-4624-8CA1-E9CF27CE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C6DC-DD66-4138-9702-EB8BE4A8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311-31AD-408A-ABD4-FD4296AC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79B-0ED9-45DC-99B3-4BF3724B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2D24-A746-40D8-A5A5-4C70EC4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DE30-B88E-417F-ADDA-71FAB46A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A98A-BAFB-42AB-A1C3-CE16FA4E4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228600" y="0"/>
            <a:ext cx="9753480" cy="689616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3041640" y="4297320"/>
            <a:ext cx="29811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371600" y="83808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лнышко лучистое</a:t>
            </a:r>
            <a:endParaRPr b="0" lang="en-US" sz="1800" spc="1" strike="noStrike">
              <a:ln w="28440">
                <a:solidFill>
                  <a:srgbClr val="ff6600"/>
                </a:solidFill>
                <a:miter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4" name="Рисунок 6" descr="13234368.png"/>
          <p:cNvPicPr/>
          <p:nvPr/>
        </p:nvPicPr>
        <p:blipFill>
          <a:blip r:embed="rId3"/>
          <a:stretch/>
        </p:blipFill>
        <p:spPr>
          <a:xfrm>
            <a:off x="3200400" y="2133720"/>
            <a:ext cx="2514600" cy="2182680"/>
          </a:xfrm>
          <a:prstGeom prst="rect">
            <a:avLst/>
          </a:prstGeom>
          <a:ln w="0">
            <a:noFill/>
          </a:ln>
        </p:spPr>
      </p:pic>
      <p:pic>
        <p:nvPicPr>
          <p:cNvPr id="45" name="Zaryadka-Solnyshkoe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Звук 1" descr=""/>
          <p:cNvPicPr/>
          <p:nvPr/>
        </p:nvPicPr>
        <p:blipFill>
          <a:blip r:embed="rId5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солнышко лучистое" descr=""/>
          <p:cNvPicPr/>
          <p:nvPr/>
        </p:nvPicPr>
        <p:blipFill>
          <a:blip r:embed="rId6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advTm="4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8876130"/>
          <p:cNvPicPr/>
          <p:nvPr/>
        </p:nvPicPr>
        <p:blipFill>
          <a:blip r:embed="rId2"/>
          <a:stretch/>
        </p:blipFill>
        <p:spPr>
          <a:xfrm>
            <a:off x="3200400" y="3276720"/>
            <a:ext cx="2914560" cy="23144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anime-deti-847.gif"/>
          <p:cNvPicPr/>
          <p:nvPr/>
        </p:nvPicPr>
        <p:blipFill>
          <a:blip r:embed="rId3"/>
          <a:stretch/>
        </p:blipFill>
        <p:spPr>
          <a:xfrm>
            <a:off x="533520" y="0"/>
            <a:ext cx="3527280" cy="274320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СЫЛКА</a:t>
            </a:r>
            <a:br>
              <a:rPr sz="1200"/>
            </a:br>
            <a:r>
              <a:rPr b="1" lang="ru-RU" sz="1200" spc="-1" strike="noStrike" u="sng">
                <a:solidFill>
                  <a:srgbClr val="333399"/>
                </a:solidFill>
                <a:uFillTx/>
                <a:latin typeface="Arial"/>
              </a:rPr>
              <a:t>HTTP://MUZOFON.COM/SEARCH/%D0%A1%D0%BE%D0%BB%D0%BD%D1%8B%D1%88%D0%BA%D0%BE%20%D0%BB%D1%83%D1%87%D0%B8%D1%81%D1%82%D0%BE%D0%B5%20%D0%9B%D0%AE%D0%91%D0%98%D0%A2%20%D0%A1%D0%9A%D0%90%D0%9A%D0%90%D0%A2%D0%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Солнышко лучистое любит скакать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horoshaya_muzyka_dlya_zaryadki_-_Solnyshko_luchistoe_lyubit_-_Trek_2(2) (mp3cut.ru).mp3" descr=""/>
          <p:cNvPicPr/>
          <p:nvPr/>
        </p:nvPicPr>
        <p:blipFill>
          <a:blip r:embed="rId2"/>
          <a:stretch/>
        </p:blipFill>
        <p:spPr>
          <a:xfrm>
            <a:off x="88390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6871094.png"/>
          <p:cNvPicPr/>
          <p:nvPr/>
        </p:nvPicPr>
        <p:blipFill>
          <a:blip r:embed="rId3"/>
          <a:stretch/>
        </p:blipFill>
        <p:spPr>
          <a:xfrm>
            <a:off x="4202280" y="1397160"/>
            <a:ext cx="2427120" cy="23968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13234368.png"/>
          <p:cNvPicPr/>
          <p:nvPr/>
        </p:nvPicPr>
        <p:blipFill>
          <a:blip r:embed="rId4"/>
          <a:stretch/>
        </p:blipFill>
        <p:spPr>
          <a:xfrm>
            <a:off x="3962520" y="1371600"/>
            <a:ext cx="2763720" cy="251460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53" name="horoshaya_muzyka_dlya_zaryadki_-_Solnyshko_luchistoe_lyubit_-_Trek_2(2) (mp3cut.ru).mp3" descr=""/>
          <p:cNvPicPr/>
          <p:nvPr/>
        </p:nvPicPr>
        <p:blipFill>
          <a:blip r:embed="rId2"/>
          <a:stretch/>
        </p:blipFill>
        <p:spPr>
          <a:xfrm>
            <a:off x="88390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d2b3f67bf557c95ac4a9eccc99c9d5b5"/>
          <p:cNvPicPr/>
          <p:nvPr/>
        </p:nvPicPr>
        <p:blipFill>
          <a:blip r:embed="rId3"/>
          <a:stretch/>
        </p:blipFill>
        <p:spPr>
          <a:xfrm>
            <a:off x="3048120" y="9907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p:transition advTm="8000">
    <p:wipe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68 0.3304 C -0.14601 0.14497 -0.03333 -0.04023 0.0349 -0.0659 C 0.10295 -0.09179 0.10486 0.09272 0.15 0.17595 C 0.19497 0.25965 0.24896 0.46543 0.30573 0.43537 C 0.3625 0.40485 0.50052 0.09526 0.49045 -0.00532 C 0.48056 -0.10636 0.32326 -0.24624 0.24566 -0.17087 C 0.16823 -0.09526 0.13646 0.43098 0.025 0.44855 C -0.08628 0.46589 -0.41979 -0.00393 -0.4224 -0.0659 C -0.425 -0.12856 -0.07431 0.04185 0.00885 0.07445 C 0.09219 0.10659 0.02396 0.12046 0.07708 0.12948 C 0.13003 0.13826 0.2283 0.1341 0.32674 0.12948 E">
                                      <p:cBhvr>
                                        <p:cTn id="2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380880" y="-38160"/>
            <a:ext cx="9753480" cy="689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d2b3f67bf557c95ac4a9eccc99c9d5b5"/>
          <p:cNvPicPr/>
          <p:nvPr/>
        </p:nvPicPr>
        <p:blipFill>
          <a:blip r:embed="rId2"/>
          <a:stretch/>
        </p:blipFill>
        <p:spPr>
          <a:xfrm>
            <a:off x="2819520" y="25909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4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06659 L -0.09028 -0.06613 C -0.04913 -0.09572 0.01146 -0.11098 0.075 -0.11098 C 0.1474 -0.11098 0.20556 -0.09572 0.24601 -0.06613 L 0.44167 0.06659 E">
                                      <p:cBhvr>
                                        <p:cTn id="2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d2b3f67bf557c95ac4a9eccc99c9d5b5"/>
          <p:cNvPicPr/>
          <p:nvPr/>
        </p:nvPicPr>
        <p:blipFill>
          <a:blip r:embed="rId2"/>
          <a:stretch/>
        </p:blipFill>
        <p:spPr>
          <a:xfrm>
            <a:off x="1523880" y="1523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advTm="23000">
    <p:wipe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path" presetID="4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143 -0.25526 C 0.60938 -0.2296 0.64167 -0.20393 0.65573 -0.17087 C 0.66962 -0.13573 0.67691 -0.09295 0.68386 -0.05041 C 0.69167 -0.00787 0.68386 0.02751 0.67691 0.06659 C 0.66962 0.10335 0.6592 0.14219 0.6342 0.17433 C 0.61355 0.20763 0.57761 0.23329 0.53872 0.25364 C 0.50348 0.27237 0.46111 0.28555 0.41893 0.29248 C 0.37622 0.29965 0.33403 0.29965 0.2948 0.29248 C 0.25261 0.28555 0.21407 0.26936 0.1823 0.24346 C 0.15018 0.22081 0.12205 0.19098 0.10799 0.1556 C 0.09028 0.12254 0.08316 0.07722 0.08316 0.04092 C 0.07986 0.00508 0.08316 -0.03769 0.10105 -0.07353 C 0.11806 -0.10613 0.15018 -0.1318 0.19254 -0.14497 C 0.23525 -0.15492 0.27795 -0.1422 0.30608 -0.11931 C 0.33056 -0.09665 0.34827 -0.06035 0.35174 -0.01804 C 0.35174 0.02427 0.34827 0.06335 0.33056 0.09664 C 0.31302 0.12901 0.31632 0.13526 0.24584 0.17826 C 0.1823 0.22381 0.11806 0.21086 0.07986 0.21364 C 0.04115 0.21364 0.00903 0.20069 -0.02968 0.18751 C -0.07257 0.17133 -0.10746 0.14219 -0.13281 0.11653 C -0.15711 0.08971 -0.16736 0.05711 -0.18194 0.00508 C -0.19166 -0.04648 -0.19166 -0.07353 -0.19166 -0.11307 C -0.19166 -0.15122 -0.19166 -0.19099 -0.19166 -0.2296 E">
                                      <p:cBhvr>
                                        <p:cTn id="34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d2b3f67bf557c95ac4a9eccc99c9d5b5"/>
          <p:cNvPicPr/>
          <p:nvPr/>
        </p:nvPicPr>
        <p:blipFill>
          <a:blip r:embed="rId2"/>
          <a:stretch/>
        </p:blipFill>
        <p:spPr>
          <a:xfrm>
            <a:off x="1600200" y="9907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 advTm="16000">
    <p:wipe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5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12208 C -0.1 0.01526 -0.02396 -0.06659 0.06909 -0.06659 C 0.1651 -0.06659 0.24166 0.01526 0.24166 0.12208 C 0.24166 0.22867 0.31771 0.31075 0.41371 0.31075 C 0.50677 0.31075 0.58333 0.22867 0.58333 0.12208 E">
                                      <p:cBhvr>
                                        <p:cTn id="40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9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2b3f67bf557c95ac4a9eccc99c9d5b5"/>
          <p:cNvPicPr/>
          <p:nvPr/>
        </p:nvPicPr>
        <p:blipFill>
          <a:blip r:embed="rId2"/>
          <a:stretch/>
        </p:blipFill>
        <p:spPr>
          <a:xfrm>
            <a:off x="0" y="10666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advTm="23000">
    <p:wipe dir="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4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5087E-006 C 0.0092 -0.10982 0.02222 -0.21433 0.04757 -0.21433 C 0.07639 -0.21433 0.08646 -0.10982 0.09601 -4.45087E-006 C 0.10868 0.12185 0.11806 0.24394 0.15 0.24394 C 0.17934 0.24394 0.18889 0.12185 0.20156 -4.45087E-006 C 0.20747 -0.10982 0.22031 -0.21433 0.24931 -0.21433 C 0.27483 -0.21433 0.2875 -0.10982 0.29722 -4.45087E-006 C 0.30712 0.12185 0.31979 0.24394 0.34861 0.24394 C 0.37778 0.24394 0.4 -4.45087000000002E-006 0.4 0.0007 C 0.40903 -0.10982 0.41927 -0.21433 0.4474 -0.21433 C 0.47622 -0.21433 0.48646 -0.10982 0.49583 -4.45087E-006 C 0.50868 0.12185 0.51806 0.24394 0.55035 0.24394 C 0.57934 0.24394 0.58872 0.12185 0.59809 -4.45087E-006 C 0.61111 -0.10982 0.62031 -0.21433 0.64931 -0.21433 C 0.67465 -0.21433 0.6875 -0.10982 0.69757 -4.45087E-006 C 0.70712 0.12185 0.71979 0.24394 0.74861 0.24394 C 0.77778 0.24394 0.78698 0.12185 0.8 -4.45087E-006 E">
                                      <p:cBhvr>
                                        <p:cTn id="46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9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d2b3f67bf557c95ac4a9eccc99c9d5b5"/>
          <p:cNvPicPr/>
          <p:nvPr/>
        </p:nvPicPr>
        <p:blipFill>
          <a:blip r:embed="rId2"/>
          <a:stretch/>
        </p:blipFill>
        <p:spPr>
          <a:xfrm>
            <a:off x="1828800" y="9907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p:transition advTm="17000">
    <p:wipe dir="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63 0.15954 C -0.175 -0.00347 -0.05608 -0.14451 0.10347 -0.15445 C 0.25625 -0.16648 0.39878 -0.05711 0.40833 0.10127 C 0.42066 0.24693 0.32031 0.38335 0.17725 0.39306 C 0.04635 0.40046 -0.07761 0.31029 -0.08716 0.17433 C -0.09653 0.05017 -0.01302 -0.06682 0.10798 -0.07653 C 0.22014 -0.0837 0.32534 -0.00809 0.33211 0.10589 C 0.33923 0.20809 0.27257 0.30774 0.17257 0.31283 C 0.08194 0.32 -0.00365 0.26173 -0.01111 0.16925 C -0.01563 0.08647 0.03437 0.00624 0.11302 0.00162 C 0.18229 -0.00347 0.25121 0.04046 0.25625 0.11098 C 0.26076 0.17179 0.225 0.23006 0.16753 0.23514 C 0.12031 0.23977 0.07014 0.21318 0.06753 0.16462 C 0.06302 0.12532 0.08194 0.08393 0.11771 0.0793 C 0.14652 0.0793 0.175 0.08902 0.17968 0.11561 C 0.18229 0.13295 0.17725 0.14982 0.16302 0.15699 C 0.15607 0.15954 0.15104 0.15954 0.14409 0.15699 E">
                                      <p:cBhvr>
                                        <p:cTn id="5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ummer-floral-backgrounds-6"/>
          <p:cNvPicPr/>
          <p:nvPr/>
        </p:nvPicPr>
        <p:blipFill>
          <a:blip r:embed="rId1"/>
          <a:stretch/>
        </p:blipFill>
        <p:spPr>
          <a:xfrm>
            <a:off x="-304920" y="-19080"/>
            <a:ext cx="9753840" cy="6896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d2b3f67bf557c95ac4a9eccc99c9d5b5"/>
          <p:cNvPicPr/>
          <p:nvPr/>
        </p:nvPicPr>
        <p:blipFill>
          <a:blip r:embed="rId2"/>
          <a:stretch/>
        </p:blipFill>
        <p:spPr>
          <a:xfrm>
            <a:off x="990720" y="19051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p:transition advTm="14000">
    <p:wipe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path" presetID="4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67 -0.27746 C -0.08455 0.000690000000000024 -0.06059 0.19977 -0.03663 0.19977 C -0.01233 0.19977 0.00868 0.000690000000000024 0.0158 -0.27746 C 0.02587 0.000690000000000024 0.04653 0.19977 0.07118 0.19977 C 0.09514 0.19977 0.11615 0.000690000000000024 0.12292 -0.27746 C 0.13333 0.000690000000000024 0.15434 0.19977 0.1783 0.19977 C 0.20313 0.19977 0.22708 0.000690000000000024 0.23368 -0.27746 C 0.2408 0.000690000000000024 0.26181 0.19977 0.28958 0.19977 C 0.31007 0.19977 0.33403 0.000690000000000024 0.34167 -0.27746 C 0.34878 0.000690000000000024 0.37274 0.19977 0.3967 0.19977 C 0.42101 0.19977 0.44201 0.000690000000000024 0.44913 -0.27746 C 0.4592 0.000690000000000024 0.47986 0.19977 0.50451 0.19977 C 0.52847 0.19977 0.54948 0.000690000000000024 0.5599 -0.27746 C 0.56667 0.000690000000000024 0.58767 0.19977 0.61163 0.19977 C 0.63646 0.19977 0.66042 0.000690000000000024 0.66701 -0.27746 C 0.67413 0.000690000000000024 0.69514 0.19977 0.72292 0.19977 C 0.74722 0.19977 0.76736 0.000690000000000024 0.775 -0.27746 E">
                                      <p:cBhvr>
                                        <p:cTn id="58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Diakov</cp:lastModifiedBy>
  <dcterms:modified xsi:type="dcterms:W3CDTF">2015-09-08T04:40:53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